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DAA63-5303-40D9-BEA9-9427BA7EE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FDEC4-7711-4028-A28F-CD04CEB1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CA4A6-F2C1-4339-97D2-14BDE1BB1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2B59A-5A92-46B7-BBE4-AD167EE9B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77BF-DD13-44F2-8ACF-B3AF03844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3D72-46C8-4ECC-B1CF-D32CD4E4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2620-85FD-4ACC-8913-8651CF7F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9EAE-50CF-4F2A-9443-4BC310D2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E6ED-FB21-4FD8-8287-0D5EB1B2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593A4-60B2-4C27-A0CC-10613290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1BB5-D1B8-482C-B128-C1507C8F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0562E-05F9-420D-B1A2-B7749E21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D439-4086-4DE8-8F2D-B013B596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6BA0-679E-4751-B0ED-CF243764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A592-F570-4B5A-95A0-BF582387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1581-EC74-422D-B114-5FB9E1DA7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F496-2F8E-4F4B-9662-91CA4028D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D8CF2-FC4C-4E53-9E6E-AFD41E17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D690D-CC2B-4A58-B9EC-1CB2C517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99AAC-FFE2-44F3-9BA5-BCC2932A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5059A-76A3-4CE5-A24E-06ED7D4C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8EFEA-EF15-4571-A106-CCD2ACC2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0AA1F-C53F-4FF6-B60D-6D44FEDE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7111F-E610-400E-B19B-E5A51726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73CB-C4F1-469B-9775-76626D9166BA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FEBF-F8C6-494F-9D0F-9FBE1BDE31B7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087560" y="300960"/>
            <a:ext cx="11279160" cy="58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8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50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3700" spc="-1" strike="noStrike">
                <a:solidFill>
                  <a:srgbClr val="ffffff"/>
                </a:solidFill>
                <a:latin typeface="Arial"/>
                <a:ea typeface="Arial"/>
              </a:rPr>
              <a:t>Пак безопасно преминахме ние</a:t>
            </a:r>
            <a:br>
              <a:rPr sz="3700"/>
            </a:br>
            <a:r>
              <a:rPr b="1" lang="bg-BG" sz="3700" spc="-1" strike="noStrike">
                <a:solidFill>
                  <a:srgbClr val="ffffff"/>
                </a:solidFill>
                <a:latin typeface="Arial"/>
                <a:ea typeface="Arial"/>
              </a:rPr>
              <a:t>цяла седмица от работни дни.</a:t>
            </a:r>
            <a:br>
              <a:rPr sz="3700"/>
            </a:br>
            <a:r>
              <a:rPr b="1" lang="bg-BG" sz="3700" spc="-1" strike="noStrike">
                <a:solidFill>
                  <a:srgbClr val="ffffff"/>
                </a:solidFill>
                <a:latin typeface="Arial"/>
                <a:ea typeface="Arial"/>
              </a:rPr>
              <a:t>Пак сме дошли във молитвен събор</a:t>
            </a:r>
            <a:br>
              <a:rPr sz="3700"/>
            </a:br>
            <a:r>
              <a:rPr b="1" lang="bg-BG" sz="3700" spc="-1" strike="noStrike">
                <a:solidFill>
                  <a:srgbClr val="ffffff"/>
                </a:solidFill>
                <a:latin typeface="Arial"/>
                <a:ea typeface="Arial"/>
              </a:rPr>
              <a:t>на поклонение в Божия двор.</a:t>
            </a:r>
            <a:br>
              <a:rPr sz="3700"/>
            </a:br>
            <a:r>
              <a:rPr b="1" lang="bg-BG" sz="3700" spc="-1" strike="noStrike">
                <a:solidFill>
                  <a:srgbClr val="ffffff"/>
                </a:solidFill>
                <a:latin typeface="Arial"/>
                <a:ea typeface="Arial"/>
              </a:rPr>
              <a:t>Колко е весел Господният ден,</a:t>
            </a:r>
            <a:br>
              <a:rPr sz="3700"/>
            </a:br>
            <a:r>
              <a:rPr b="1" lang="bg-BG" sz="3700" spc="-1" strike="noStrike">
                <a:solidFill>
                  <a:srgbClr val="ffffff"/>
                </a:solidFill>
                <a:latin typeface="Arial"/>
                <a:ea typeface="Arial"/>
              </a:rPr>
              <a:t>ден от Създателя благословен,</a:t>
            </a:r>
            <a:br>
              <a:rPr sz="3700"/>
            </a:br>
            <a:r>
              <a:rPr b="1" lang="bg-BG" sz="3700" spc="-1" strike="noStrike">
                <a:solidFill>
                  <a:srgbClr val="ffffff"/>
                </a:solidFill>
                <a:latin typeface="Arial"/>
                <a:ea typeface="Arial"/>
              </a:rPr>
              <a:t>ден най-приятен от всичките дни,</a:t>
            </a:r>
            <a:br>
              <a:rPr sz="3700"/>
            </a:br>
            <a:r>
              <a:rPr b="1" lang="bg-BG" sz="3700" spc="-1" strike="noStrike">
                <a:solidFill>
                  <a:srgbClr val="ffffff"/>
                </a:solidFill>
                <a:latin typeface="Arial"/>
                <a:ea typeface="Arial"/>
              </a:rPr>
              <a:t>образ на вечните ни добрини!</a:t>
            </a:r>
            <a:endParaRPr b="0" lang="en-US" sz="37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1128600"/>
            <a:ext cx="896472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И като търсим прощение сега</a:t>
            </a:r>
            <a:br>
              <a:rPr sz="3800"/>
            </a:b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в славното име на Бога Христа,</a:t>
            </a:r>
            <a:br>
              <a:rPr sz="3800"/>
            </a:b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през този светъл ден на ценен пир</a:t>
            </a:r>
            <a:br>
              <a:rPr sz="3800"/>
            </a:b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вдъхни ни, Боже, Ти душевен мир!</a:t>
            </a:r>
            <a:br>
              <a:rPr sz="3800"/>
            </a:b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Дай ни почивка от грижа и труд!</a:t>
            </a:r>
            <a:br>
              <a:rPr sz="3800"/>
            </a:b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Дай ни почивка от грях и от студ!</a:t>
            </a:r>
            <a:br>
              <a:rPr sz="3800"/>
            </a:b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Нека ние този ден да осветим,</a:t>
            </a:r>
            <a:br>
              <a:rPr sz="3800"/>
            </a:b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на нашия Бог да го посветим!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412560" y="725400"/>
            <a:ext cx="10058040" cy="53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Вред да се чуе днес радостен глас -</a:t>
            </a:r>
            <a:br>
              <a:rPr sz="3800"/>
            </a:b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благото слово на нашия Спас!</a:t>
            </a:r>
            <a:br>
              <a:rPr sz="3800"/>
            </a:b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Всякъде грешните да убеди,</a:t>
            </a:r>
            <a:br>
              <a:rPr sz="3800"/>
            </a:b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всякъде верните да утеши!</a:t>
            </a:r>
            <a:br>
              <a:rPr sz="3800"/>
            </a:b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Тъй да е всяка седмица денят,</a:t>
            </a:r>
            <a:br>
              <a:rPr sz="3800"/>
            </a:b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доде изминем ние земния път,</a:t>
            </a:r>
            <a:br>
              <a:rPr sz="3800"/>
            </a:b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после да стигнем в небесния рай,</a:t>
            </a:r>
            <a:br>
              <a:rPr sz="3800"/>
            </a:b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в вечна почивка и радост без край!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7-03T08:08:04Z</dcterms:modified>
  <cp:revision>16</cp:revision>
  <dc:subject/>
  <dc:title>Slide 1</dc:title>
</cp:coreProperties>
</file>